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481-1ABE-4FD3-AE94-8537C2E8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1CD-4B12-4BD7-93F9-6BCEBADA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502-C0A9-453C-88DA-C51B3D32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88C-5B7E-431F-A44B-C622A6B8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1079-1431-40D8-99A6-F04D63E2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8470-4AF7-4A23-A92D-326CFC46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A329-2892-455D-BF4B-C241C63E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CC54-9838-4AD7-8BED-C3D40D50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2A05-ED2A-402C-B0A2-C1000AB4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4769-1090-43F3-A3EF-6A5D7698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DE63-9B21-4B3A-9F72-92BFF1C4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B09-DAD3-47D7-87F3-A24A907F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2311-1319-451F-B735-13DE8BFA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62B8-D175-4709-9B40-6D21228F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E4AF-5076-4F31-BEB6-FF1FD0A6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1E78-0EAB-4CDF-88A0-35308AE0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8681-960B-42D0-B661-6AF7A9B9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3A7-BCC4-4FE6-839C-F7136247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DCD-A12E-447A-84ED-780FB78E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0CC-57B3-429A-954F-807A7D65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E50-7172-41B8-8F9D-801EE33F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1AA-14C0-4E09-AA16-80CB96F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8FF-687E-41CE-8AF1-DE755287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CC4-2311-4B91-9824-F38BCA98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ECFF-65B5-41D3-9ADA-0BBA9B997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plant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8207-1109-4D2D-BE74-5C0036079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caert.com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9795" dir="389898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derstanding Soil Form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4" descr="cartlogo_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86520"/>
            <a:ext cx="66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pograph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ope of the l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re slope = more run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re runoff = depletion of nutr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ving Organism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sms that live in soil (i.e., plants, insects, and microbes) actively affect soil forma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organisms = more aeration and drain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sms can break down 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318"/>
          <p:cNvPicPr/>
          <p:nvPr/>
        </p:nvPicPr>
        <p:blipFill>
          <a:blip r:embed="rId1"/>
          <a:stretch/>
        </p:blipFill>
        <p:spPr>
          <a:xfrm>
            <a:off x="5257800" y="1676520"/>
            <a:ext cx="37544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ving Organis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c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ft over, decomposed matter from once living organis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ives soil its dark black co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deal, good soil has about 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3" descr="finished-compost.jpg"/>
          <p:cNvPicPr/>
          <p:nvPr/>
        </p:nvPicPr>
        <p:blipFill>
          <a:blip r:embed="rId1"/>
          <a:stretch/>
        </p:blipFill>
        <p:spPr>
          <a:xfrm>
            <a:off x="4495680" y="3782880"/>
            <a:ext cx="4496040" cy="299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organic matter.jpg"/>
          <p:cNvPicPr/>
          <p:nvPr/>
        </p:nvPicPr>
        <p:blipFill>
          <a:blip r:embed="rId2"/>
          <a:stretch/>
        </p:blipFill>
        <p:spPr>
          <a:xfrm>
            <a:off x="914400" y="3886200"/>
            <a:ext cx="2857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ime and Weatherin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wo types of weathe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hysical weather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caused by the effects of climatic factors (e.g., temperature, water, and wind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hemical weathering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the chemical makeup of rock and breaks it dow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time = more weath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mat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es into each previous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es temperature and mois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s enhanced by the organisms and  topography of the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ive different factors that affect soil forma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26" descr="22"/>
          <p:cNvPicPr/>
          <p:nvPr/>
        </p:nvPicPr>
        <p:blipFill>
          <a:blip r:embed="rId1"/>
          <a:stretch/>
        </p:blipFill>
        <p:spPr>
          <a:xfrm>
            <a:off x="5486400" y="2619360"/>
            <a:ext cx="2857680" cy="3629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7"/>
          <p:cNvSpPr/>
          <p:nvPr/>
        </p:nvSpPr>
        <p:spPr>
          <a:xfrm>
            <a:off x="457200" y="3809880"/>
            <a:ext cx="4495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Topography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lop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i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-133200" y="1600200"/>
            <a:ext cx="685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ent material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rock material from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ch the soil is forme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are five different factors that affect soil formation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Living organis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Time or weath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341"/>
          <p:cNvPicPr/>
          <p:nvPr/>
        </p:nvPicPr>
        <p:blipFill>
          <a:blip r:embed="rId1"/>
          <a:stretch/>
        </p:blipFill>
        <p:spPr>
          <a:xfrm>
            <a:off x="3276720" y="4019400"/>
            <a:ext cx="4653000" cy="2686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762120" y="2743200"/>
            <a:ext cx="8001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Climate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the temperature and moisture characteristics of the are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soils in Illinois have been formed from material originally moved by glaci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317"/>
          <p:cNvPicPr/>
          <p:nvPr/>
        </p:nvPicPr>
        <p:blipFill>
          <a:blip r:embed="rId1"/>
          <a:stretch/>
        </p:blipFill>
        <p:spPr>
          <a:xfrm>
            <a:off x="2362320" y="3352680"/>
            <a:ext cx="45972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771560" y="-28440"/>
            <a:ext cx="56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out 64% of the soil in Illinois comes from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ccurred from the blowing of the soil after the glaciers melted and dri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 desirable single soil parent mate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wa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out 16% of the soil in Illinois comes from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ccurred when the glaciers mel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342"/>
          <p:cNvPicPr/>
          <p:nvPr/>
        </p:nvPicPr>
        <p:blipFill>
          <a:blip r:embed="rId1"/>
          <a:stretch/>
        </p:blipFill>
        <p:spPr>
          <a:xfrm>
            <a:off x="1905120" y="2819520"/>
            <a:ext cx="5562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acial t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bout 11% of the soil in Illino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bbles and various sizes of bou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343"/>
          <p:cNvPicPr/>
          <p:nvPr/>
        </p:nvPicPr>
        <p:blipFill>
          <a:blip r:embed="rId1"/>
          <a:stretch/>
        </p:blipFill>
        <p:spPr>
          <a:xfrm>
            <a:off x="2133720" y="2846520"/>
            <a:ext cx="52578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2a2"/>
            </a:gs>
            <a:gs pos="100000">
              <a:srgbClr val="00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Parent Materi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uv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diments deposited by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344"/>
          <p:cNvPicPr/>
          <p:nvPr/>
        </p:nvPicPr>
        <p:blipFill>
          <a:blip r:embed="rId1"/>
          <a:stretch/>
        </p:blipFill>
        <p:spPr>
          <a:xfrm>
            <a:off x="6324480" y="121932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04920" y="27432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edrock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hale, sandstone, or limeston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uried by loess, glacial till, outwash, or alluvium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345"/>
          <p:cNvPicPr/>
          <p:nvPr/>
        </p:nvPicPr>
        <p:blipFill>
          <a:blip r:embed="rId2"/>
          <a:stretch/>
        </p:blipFill>
        <p:spPr>
          <a:xfrm>
            <a:off x="3657600" y="4267080"/>
            <a:ext cx="34448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2:21:08Z</dcterms:created>
  <dc:creator>Lindi Kocher</dc:creator>
  <dc:description/>
  <cp:keywords/>
  <dc:language>en-US</dc:language>
  <cp:lastModifiedBy>Alicia Burge</cp:lastModifiedBy>
  <dcterms:modified xsi:type="dcterms:W3CDTF">2012-02-08T03:16:28Z</dcterms:modified>
  <cp:revision>120</cp:revision>
  <dc:subject/>
  <dc:title>Horticulture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